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EE7-F25E-4F93-8665-D67D9167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D85-9262-47B0-9BB8-5CC418E0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0D6-F465-478B-B5B5-8EF960A5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B1C-10F7-4101-A61E-CBAD600E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4AE-F838-462D-B977-1017D85B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090-5164-4E2B-BAFB-989A838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DDC-62F2-43FE-9006-29A7ADE7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A5E-0EE4-415E-87CF-6E53B3BA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0B0-3078-47B5-9AB6-E82A5BF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9E2-2A68-4373-AF5E-85872ED1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8BD-46B0-436F-8165-B506659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EBB-E0CC-47C6-9DCA-6E45732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8391-4A22-49EA-B497-CD7450E6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atorade.com/swf/products/images/1/G2_Fruit_Punch.png&amp;imgrefurl=http://www.gatorade.com/products/product.aspx%3Fid%3Dg2&amp;usg=__5XCLJpOv-Msd_judFEFQhhFT0rs=&amp;h=580&amp;w=250&amp;sz=160&amp;hl=en&amp;start=17&amp;zoom=1&amp;tbnid=vED_r0hiCTkDtM:&amp;tbnh=134&amp;tbnw=58&amp;ei=JZzXTrb0I4Li2QXuvayZDw&amp;prev=/search%3Fq%3Dgatorade%26hl%3Den%26gbv%3D2%26tbm%3Disch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atorade.com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lemelson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456840" y="1066680"/>
            <a:ext cx="5410440" cy="4495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3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26708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era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48520"/>
            <a:ext cx="4876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now way underscore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8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581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3733920" cy="563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457200" y="4799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876920"/>
            <a:ext cx="31244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, Robert Cade, 12/8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atora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57200" y="53341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ade"/>
          <p:cNvPicPr/>
          <p:nvPr/>
        </p:nvPicPr>
        <p:blipFill>
          <a:blip r:embed="rId4"/>
          <a:stretch/>
        </p:blipFill>
        <p:spPr>
          <a:xfrm rot="1543800">
            <a:off x="3505320" y="1219320"/>
            <a:ext cx="5410080" cy="214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1480" y="47926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42800">
            <a:off x="3315960" y="4142880"/>
            <a:ext cx="37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Gatorade banner, Dec.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Lemel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tried several concoctions and finally came up with a winning formula consisting of water, sugar, sodium, potassium, phosphate, and lemon ju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orade became a house hold name when the traditions of pouring the Gatorade jug on the head of the winning c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Quaker Oats Co. was acquired by Pesp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siCo. In 2001, Gatorade was well on its way to world wide sales In bill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lude other products such as energy bars and chewing gum as well as more than 15 Gatorade flav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bert Ca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Cade was born in 1927, in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was trained at the University of Texas Medical School in Dallas as an internist and nephrolog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working as a medical researcher at the University of Florida when a football coach there was frustrated that his players were unable to keep going st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was intrigued with the problem and lead a research team into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patented the drink, calling it GATORADE at the suggestion of a colleague after the university’s football team. “The Ga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partnered with Stokley-Van Camp who mass produced and distributed the dr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2Z</dcterms:created>
  <dc:creator>install</dc:creator>
  <dc:description/>
  <dc:language>en-US</dc:language>
  <cp:lastModifiedBy>install</cp:lastModifiedBy>
  <dcterms:modified xsi:type="dcterms:W3CDTF">2011-12-16T15:31:13Z</dcterms:modified>
  <cp:revision>7</cp:revision>
  <dc:subject/>
  <dc:title>Slide 1</dc:title>
</cp:coreProperties>
</file>